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6088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11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49280" y="965160"/>
            <a:ext cx="506736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49280" y="965160"/>
            <a:ext cx="506412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49280" y="965160"/>
            <a:ext cx="506736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49280" y="965160"/>
            <a:ext cx="5072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49280" y="965160"/>
            <a:ext cx="5072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9280" y="965160"/>
            <a:ext cx="506412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9280" y="965160"/>
            <a:ext cx="5072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9280" y="965160"/>
            <a:ext cx="506412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49280" y="965160"/>
            <a:ext cx="50706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49280" y="965160"/>
            <a:ext cx="506412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2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87598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7800"/>
            <a:ext cx="87598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9720" y="1963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7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9720" y="4537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282060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2960" y="1963800"/>
            <a:ext cx="282060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5040" y="1963800"/>
            <a:ext cx="282060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7800"/>
            <a:ext cx="282060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2960" y="4537800"/>
            <a:ext cx="282060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5040" y="4537800"/>
            <a:ext cx="282060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800"/>
            <a:ext cx="87598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4840" indent="0" algn="ctr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87598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74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9720" y="1963800"/>
            <a:ext cx="4274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596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4840" indent="-204840"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9720" y="1963800"/>
            <a:ext cx="4274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7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74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9720" y="1963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9720" y="4537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9720" y="1963800"/>
            <a:ext cx="4274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7800"/>
            <a:ext cx="87598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6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598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67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2480" indent="-282600">
              <a:lnSpc>
                <a:spcPct val="67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4120" indent="-212400">
              <a:lnSpc>
                <a:spcPct val="67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16120" indent="-204840">
              <a:lnSpc>
                <a:spcPct val="67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47760" indent="-206280">
              <a:lnSpc>
                <a:spcPct val="67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47760" indent="-206280">
              <a:lnSpc>
                <a:spcPct val="6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47760" indent="-206280">
              <a:lnSpc>
                <a:spcPct val="6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3400560"/>
            <a:ext cx="1440" cy="29880"/>
          </a:xfrm>
          <a:custGeom>
            <a:avLst/>
            <a:gdLst/>
            <a:ahLst/>
            <a:rect l="l" t="t" r="r" b="b"/>
            <a:pathLst>
              <a:path w="21600" h="362880">
                <a:moveTo>
                  <a:pt x="10800" y="0"/>
                </a:moveTo>
                <a:arcTo wR="10800" hR="10800" stAng="16200000" swAng="-5400000"/>
                <a:lnTo>
                  <a:pt x="0" y="352080"/>
                </a:lnTo>
                <a:arcTo wR="10800" hR="10800" stAng="10800000" swAng="-5400000"/>
                <a:lnTo>
                  <a:pt x="10800" y="36288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6320" y="3657600"/>
            <a:ext cx="12852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ogether We Can Make A Differen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1240" y="1371600"/>
            <a:ext cx="885996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30800" y="1963440"/>
            <a:ext cx="42768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6025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HE EN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40880" y="2008080"/>
            <a:ext cx="87663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78000"/>
              </a:lnSpc>
              <a:buNone/>
              <a:tabLst>
                <a:tab algn="l" pos="0"/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By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0" algn="ctr">
              <a:lnSpc>
                <a:spcPct val="78000"/>
              </a:lnSpc>
              <a:buNone/>
              <a:tabLst>
                <a:tab algn="l" pos="0"/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Blake, Peter, and Nir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560" y="2282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6600" spc="-1" strike="noStrike">
                <a:solidFill>
                  <a:srgbClr val="ff9966"/>
                </a:solidFill>
                <a:latin typeface="Arial"/>
              </a:rPr>
              <a:t>GLOBAL WARMING</a:t>
            </a:r>
            <a:endParaRPr b="1" i="1" lang="en-US" sz="6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1240" y="2008080"/>
            <a:ext cx="877248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How Do Human Activities Cause Global Warming?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How Does Global Warming Impact The Planet?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How Can People Slow The Rate Of Global Warming?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2057400"/>
            <a:ext cx="12852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326880"/>
            <a:ext cx="86076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uman Activit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10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Car Emission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Factory Emission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Cutting down forest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Burning fossil fuel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326880"/>
            <a:ext cx="86076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mpacts On The Plane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10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Melting the icecap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Green house gase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Ozone layer decreas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Higher temperature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326880"/>
            <a:ext cx="859968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anded Polar Bea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41400" y="1143000"/>
            <a:ext cx="843120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0800" y="1963440"/>
            <a:ext cx="42768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326880"/>
            <a:ext cx="86076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at You Can D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10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Car pool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Save paper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Buy Eco-friendly product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0840" indent="-211320" algn="ctr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Recycl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use, Renew, Recyc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41240" y="1600200"/>
            <a:ext cx="817416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30800" y="1963440"/>
            <a:ext cx="42768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ll of Ac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8800" y="2014560"/>
            <a:ext cx="42800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egin with the little things like recycling plastic bottles, and if everyone does it, then it will begin to take effec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34040" y="1828800"/>
            <a:ext cx="436716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LLUTION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41240" y="1828800"/>
            <a:ext cx="8859960" cy="4800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30800" y="1963440"/>
            <a:ext cx="42768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